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B2D2-9DAC-4CED-A185-42BE330AC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5894-5109-43D8-BC56-680764C23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B09-ACCE-4CFB-9E38-5E1F102D7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BAE-762C-408B-903D-32D008E2A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7767-C72C-4080-8010-0D355048E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70A-C5E0-462A-A9CD-B4EA98FAF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7C25-B72C-4D28-ACED-15CBA629A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24B-1B4A-4921-AB1F-1677FCF01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90F-ED9B-428E-9140-3BAE8D0AC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02A-FC47-4E14-97AC-8770BB6F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7A8-59E6-47DD-A321-2488550C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607-A570-4F21-9B28-32011A03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DC1-FC20-49A9-9998-FAD49EBF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42CB-0DA0-439C-B0EC-01234172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3FE9-79BB-4757-8420-03250E2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F6CA-68AF-454A-B1E4-99CFC38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4B0A-BD45-480C-8CD3-C1F4BFC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0802-4096-462A-A7EB-BB504A53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625-AF87-4B2F-8527-6B0ED4AE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62E4-736D-476A-8392-9A79DDF3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D60-2A23-499D-83FF-5347AD9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190-E1C5-4CA9-B155-2F9A48D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E29-9FF6-4172-A743-2A0BC9A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C75B-EAA0-454B-8CB0-80F6E10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2325-8ADD-45C5-8F40-7CE9E28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968-E843-4092-9EB8-3A6FD475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2290-3CC6-492C-9C58-DD1BA436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52E0-2A7F-47FF-8DA0-A8AA1724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542F-61A3-41FA-A207-614306F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B292-E3C1-41CA-A7CF-67AF4674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66DD-C4C5-49A8-BACA-73B85690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2F6-5C14-4599-B2F4-858968B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079F-0DF0-45CF-8ABF-E1EC8DF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DB01-B143-41F1-9C4C-7BFF643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6D2C-836C-453D-97D7-02F7BBC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0419-8EF4-458E-A44D-5423BF9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6279-CC93-46B8-9FC7-ADBDE7CE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E87C-B739-453B-AEC1-63FAB516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052E-6334-42B3-B299-FF1007E5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8D68-85EE-48B5-AEEC-FC2081A1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B13F-651E-4F7F-A849-B8A2BB9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703A-EA7B-4569-AB96-76A8552A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6BD-6FF6-4B8A-9BB9-2184E84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6FBB-435A-4CC3-AB8E-5B14B9D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C333-27BC-4A74-9120-7409B01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75CB-F70E-4C92-985E-A28C9CE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C43A-CF22-4E78-84A3-0B2A0AE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922E-CEF4-4477-8B4F-808D0B4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6225-DF95-497A-B533-20DF735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E64B-6CAB-4AAE-9EE4-B9DD32B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E9F2-3ACC-4BA6-978B-AB7FF4E6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C81E-9204-44D4-82AB-D3EC6FF4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81AE-28FD-48AA-BCEA-DCA71E78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C54-EE0E-4110-B20B-1795578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5F9A-D1DD-450A-B364-96ADCC2B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E9BE-AEF1-494D-B91F-626BCB9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9B20-643F-4A8D-A23B-B1C8CADF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3F5F1-CF7E-4FB0-A2B2-43C8A95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2843-A9F5-4FD0-BC6E-061D3E1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6CE6-0A52-48F8-A1BD-D531CE2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048B-47F7-4938-925E-1662524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3B167-6592-40F3-84C4-E573BCE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E7E8D-EE36-47BF-8770-74D25EF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4A16-CE51-48DD-AEC8-D362DC18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42D-44C7-4A54-9D9B-E1EEC65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8DD9-DAC2-416D-822D-815D1DC6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D81-9673-49E4-B578-749FCF1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36D-9A19-4BE5-8745-F319264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F49-0E78-4CED-8017-71D2747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A28-45F0-42FE-9FD2-C3CE5A41E6F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EBC-6FC4-411B-9FD4-0FCEB0E67F69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62A-D35B-4652-BE0F-BA6CB7AEEDF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742-9C89-4FD2-9641-2ABFCAB01C8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1F4-428D-4690-8524-DA0CB2AB6D3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090960" y="536400"/>
            <a:ext cx="565632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201 INTRO TO LIT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of. Ev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228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152280" y="1523880"/>
            <a:ext cx="2590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lat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f34"/>
                </a:solidFill>
                <a:latin typeface="Arial"/>
              </a:rPr>
              <a:t>-simple, expresses 1 or 2 characteristics ; stereotypes or arche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2819520" y="159876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da and Tar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152280" y="3886200"/>
            <a:ext cx="2819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Round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f34"/>
                </a:solidFill>
                <a:latin typeface="Arial"/>
              </a:rPr>
              <a:t>-complex, internal conflicts; like rea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819520" y="3505320"/>
            <a:ext cx="5257800" cy="1008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 Wars III” Revenge of the Sith” by George Lu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kin, Obi Wan Kenobi, Chan. Pal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2819520" y="256860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hop Trespalacios, Gen. Abercrom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2819520" y="4648320"/>
            <a:ext cx="524016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kespeare in Love” by John Ma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(Shakespeare), Viola (de Less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2819520" y="5616720"/>
            <a:ext cx="5240160" cy="7038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by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man and nar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201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51720" y="2808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Clim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228600" y="3424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he highest point of action, final strug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2692440" y="222264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da is changed into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2692440" y="3270240"/>
            <a:ext cx="5240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Gen. retreats from San J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2692440" y="4270320"/>
            <a:ext cx="5240160" cy="1313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by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man explains the severity of the economic crisis by comparing it to the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"/>
          <p:cNvSpPr/>
          <p:nvPr/>
        </p:nvSpPr>
        <p:spPr>
          <a:xfrm>
            <a:off x="351720" y="1981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44520" y="25560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2 types or subgen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on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2760840" y="2222640"/>
            <a:ext cx="5240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n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760840" y="2819520"/>
            <a:ext cx="52401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760840" y="340056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sh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2760840" y="394344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2743200" y="4476600"/>
            <a:ext cx="52401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533520" y="1030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ich genre and story did you like the most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09480" y="20574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mmingbird” Author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th (Tai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09480" y="29718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ayetano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end (Puerto R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609480" y="3886200"/>
            <a:ext cx="62485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 Wars III: Revenge of the Sith” George Lu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22440" y="4800600"/>
            <a:ext cx="62355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kespeare in Love” John Madden (Di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ical 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09480" y="5692680"/>
            <a:ext cx="62359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re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618480" y="2057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260880" y="2068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ven Thousand Virgi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534960" y="304920"/>
            <a:ext cx="679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s in the city are multiplying and now it seems they are coming toward us!” said the sentinel to the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24600" y="2438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3443040" y="243828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yetano Coll y T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678240" y="3505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3495600" y="347976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 or Cli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600840" y="3019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3420720" y="29718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558000" y="3957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2651040" y="3962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n Juan Puerto Rico,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335160" y="61675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835360" y="61675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 retreat to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302040" y="43387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2803680" y="4338720"/>
            <a:ext cx="534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 invasion in 17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. Abercromby, Gov. 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shop Trespalacios, la rogativa procession in honor of Sta. Ursula &amp; the Eleven Vi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786960" y="2903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429000" y="2914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Want to 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93080" y="3284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615480" y="328464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erwood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84528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659040" y="3733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cial 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770040" y="42670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3515040" y="42670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6951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289548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valorize unemployed working men; expose the ignorance of people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304920" y="95400"/>
            <a:ext cx="775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t in two chairs by a window that looked down on the factories while we drank our beer and talked. An old feeling, so common in American men, concerned with modern industry – was pride in the very thing that has apparen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own his life out of g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"/>
          <p:cNvSpPr/>
          <p:nvPr/>
        </p:nvSpPr>
        <p:spPr>
          <a:xfrm>
            <a:off x="610560" y="2286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3252960" y="2297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Hummingbi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380880" y="262080"/>
            <a:ext cx="786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da was grief stricken and prayed to her god for help. “Do not let me marry this man whom I do not love!” The god took pity on her and changed her into a beautiful red fl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16680" y="26668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436920" y="26668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669600" y="32716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477600" y="3271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733680" y="38862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491280" y="38098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66204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3481560" y="42703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explain how hummingbirds came into existence and why they hum and flit from flower to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79680" y="5938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3405240" y="5938920"/>
            <a:ext cx="44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mmingbird is Taroo always looking for Alida the f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51552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832120" y="260208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 Wars III: Revenge of the Si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228600" y="7632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tunning move, the fiendish droid leader, General Grievous has swept into the Republic capital and kidnapped Chancellor Palpatine, leader of the Galactic Sen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27760" y="3119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2990520" y="3048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orge Lucas (Dir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27760" y="3500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3059640" y="35053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ence 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605160" y="40384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3066120" y="40384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522360" y="45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ype of SciF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3137040" y="45673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ntasy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533520" y="50245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ments of SciF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3048120" y="5024520"/>
            <a:ext cx="53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turistic setting, advanced technology, droids &amp; rob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2"/>
          <p:cNvSpPr/>
          <p:nvPr/>
        </p:nvSpPr>
        <p:spPr>
          <a:xfrm>
            <a:off x="515520" y="3282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832120" y="32227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kespeare  in Lo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28600" y="763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tit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ristopher Marlo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ours?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Romeo and Ethel the Pirate's Daughter". - Oh, yes, I know, I know.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ristopher Marlo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is the story?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, there's this pirate. - In truth I have not written a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527760" y="37400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2989080" y="366876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ohn Madden (Dir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527760" y="4121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3060000" y="41259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9"/>
          <p:cNvSpPr/>
          <p:nvPr/>
        </p:nvSpPr>
        <p:spPr>
          <a:xfrm>
            <a:off x="605160" y="46594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 of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0"/>
          <p:cNvSpPr/>
          <p:nvPr/>
        </p:nvSpPr>
        <p:spPr>
          <a:xfrm>
            <a:off x="3066120" y="46594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522360" y="5178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ype of HisF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2"/>
          <p:cNvSpPr/>
          <p:nvPr/>
        </p:nvSpPr>
        <p:spPr>
          <a:xfrm>
            <a:off x="3137040" y="518796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igures, fictio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5"/>
          <p:cNvSpPr/>
          <p:nvPr/>
        </p:nvSpPr>
        <p:spPr>
          <a:xfrm>
            <a:off x="533520" y="5645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3048120" y="564516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90s Elizabetha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533520" y="6014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rical fa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048120" y="6014880"/>
            <a:ext cx="53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akespeare, Viola, theatre, Queen Elizabeth, Christopher Marl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614880" y="1219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600200" y="1217520"/>
            <a:ext cx="632448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timeless, general pa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etypal, often gods appear or fantastical cr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279000" y="3576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600200" y="3549600"/>
            <a:ext cx="6324480" cy="1618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historical time period (year, 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eal historical figures, and sometimes fiction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389160" y="8380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752480" y="914400"/>
            <a:ext cx="6096240" cy="1618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future / other planets, gala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obotic, androids, aliens, other futuristic cr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60560" y="26748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752480" y="2717640"/>
            <a:ext cx="6096240" cy="1923480"/>
          </a:xfrm>
          <a:prstGeom prst="rect">
            <a:avLst/>
          </a:prstGeom>
          <a:noFill/>
          <a:ln w="936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historical period at least 20 years before the work is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real historical figures mixed with fictional characters, some re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237240" y="465624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752480" y="4844880"/>
            <a:ext cx="6096240" cy="1618560"/>
          </a:xfrm>
          <a:prstGeom prst="rect">
            <a:avLst/>
          </a:prstGeom>
          <a:noFill/>
          <a:ln w="9360">
            <a:solidFill>
              <a:srgbClr val="e36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period: contemporary (to when it is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inal people as heroes, powerful people are villains or exposed as immoral or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7486560" cy="1011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201600" y="8380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ampl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838080" y="1530360"/>
            <a:ext cx="7059600" cy="2228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en Thousand Virgins”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informatio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h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oll y T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legend / failed inva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(original audience) Puerto Rican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s after U.S. col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38080" y="4214880"/>
            <a:ext cx="705960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ant to Work” Sherwoo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informatio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h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ocial realism / worker’s right, labor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(original audience) 1930s US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2:04:45Z</dcterms:created>
  <dc:creator>Petra</dc:creator>
  <dc:description/>
  <dc:language>en-US</dc:language>
  <cp:lastModifiedBy>Sally Everson</cp:lastModifiedBy>
  <dcterms:modified xsi:type="dcterms:W3CDTF">2011-06-28T16:36:57Z</dcterms:modified>
  <cp:revision>76</cp:revision>
  <dc:subject/>
  <dc:title>Literary terms &amp; devices</dc:title>
</cp:coreProperties>
</file>